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DE4-907B-4CD6-8FA5-3985D50C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66F-2D6C-4AA4-903B-007D358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B7A-D1B4-4DFD-8E5A-9A21BAB5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1A2-8976-4C47-AD74-ECEAFCC7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D4FB-00AA-4AA6-9443-9B70DC81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BF7-4237-49CE-9AE6-C43C764B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BE3-10AC-4761-9F45-A293AD30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8A1-EC33-478F-80AA-11F6B0DD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475-61DC-49C5-9032-D828A82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C89-B13B-4E00-BBE2-8791D4A1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8BD5-B1A6-4278-8BF5-FB85597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402-0A4F-4EBF-9375-4FC6EF6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C5A-44B2-4784-A42A-84ABFE8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D9F-5FFD-433F-A7A7-E7CE383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F273-F1EF-4792-91F1-032B6D1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818-19C2-4358-B2F0-04A653BA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70EB-FAB4-4B11-BD9D-9F032E79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4B7-37DC-4634-A118-D52F083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1F7-C30A-47C3-8B64-56BE13D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CB1-D501-4959-B678-D4FF6EF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A20-ABFD-45E0-B089-F1E1D56A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E78-9D8B-400D-9C47-6282024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AF0-1843-4091-AFC2-BF7BFCA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86B-687D-4CB9-BE64-E10F6F8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66E-3788-4856-BBA7-4D4BA3D9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27CC-5FCE-426A-B831-5A40D76D4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2" descr="C:\Users\Leslie\AppData\Local\Microsoft\Windows\Temporary Internet Files\Content.IE5\5LTV4UFA\MC900439405[1].jpg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2:33:06Z</dcterms:created>
  <dc:creator>Leslie Colosimo</dc:creator>
  <dc:description/>
  <dc:language>en-US</dc:language>
  <cp:lastModifiedBy>Leslie Colosimo</cp:lastModifiedBy>
  <dcterms:modified xsi:type="dcterms:W3CDTF">2011-05-01T02:35:41Z</dcterms:modified>
  <cp:revision>1</cp:revision>
  <dc:subject/>
  <dc:title>Slide 1</dc:title>
</cp:coreProperties>
</file>